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1040-1413-437E-81D2-AE1038DD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1A9D-7968-49EF-B721-58FD095AF3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323-F429-4842-9613-C81EF758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A6F-D123-4017-A696-5C016721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F9B-0CCC-4B90-B214-130F1C9E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0FC-F5FB-4BB1-A14A-B87B3072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42C-05F9-4BB3-9C17-B5FEBD41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6B6-4FC3-427C-A5D3-947017B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965-A2AF-4D52-8A68-470CC315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5A0-545E-4EDF-BC2A-E1704051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E6E-F0BA-4880-9338-093563C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04E-79BE-418C-B415-46490F2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2AB-E58C-475B-B679-3AF34E9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BA2-7E36-4937-9E22-6070D8F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31E2-8567-471A-8497-E9D1F119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brainpop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Physics%20of%20Road%20Runner/RoadRunner.ppt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17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514600"/>
            <a:ext cx="7543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3219480"/>
            <a:ext cx="845820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ton's Laws of Mo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318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line Answers You Believe are Correct NOW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54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BrainPop – Newton’s Laws of Motion Check Pre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oon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nd Motion Test Study Guide (Answers available during homeroom/lunch/dismissal to ch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s during homeroom on Wednesday since sub will be here tomorrow…Ms. Criss could help on Tuesday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cartoons manipulate Newton’s Laws of Mo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71DF63AD-4F2F-4013-A966-9AB68B426443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 and relate formal ideas (Newton’s Laws) about the interaction of force and motion to real world experi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Question 20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Newton’s 3 Laws of Mo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2852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3124080"/>
            <a:ext cx="4572000" cy="3560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14929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orce and Motion Test Review Gu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You will get in HR at end of the day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Human Cannonball cartoon, the cannon goes backwards when set-off rather than the coyote flying forward…which law does this br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2209680"/>
          <a:ext cx="45720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5720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rcRect l="11721" t="27130" r="12470" b="4125"/>
          <a:stretch/>
        </p:blipFill>
        <p:spPr>
          <a:xfrm>
            <a:off x="6019920" y="152280"/>
            <a:ext cx="2898720" cy="1971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w (Inert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w (F=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Law (Action/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7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03:31Z</dcterms:created>
  <dc:creator>krmihal</dc:creator>
  <dc:description/>
  <dc:language>en-US</dc:language>
  <cp:lastModifiedBy>krmihal</cp:lastModifiedBy>
  <dcterms:modified xsi:type="dcterms:W3CDTF">2010-05-19T19:03:42Z</dcterms:modified>
  <cp:revision>1</cp:revision>
  <dc:subject/>
  <dc:title>Slide 1</dc:title>
</cp:coreProperties>
</file>